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CCDC-171B-46B8-84EE-6D8544FADB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730A-0228-4109-911C-9E616A2479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B1C2-B253-4D4E-ACA0-24D3C35566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F0B7-3213-4837-9B25-A5A74E89DF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9786-D266-4067-BC77-2CA52837F0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D0A3-B743-4EBE-B9CA-BC604AA873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948E-B6DF-47D4-9C81-7EEDE949B0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B494-CF7A-4CFD-8126-3EB72AE2A5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2C1-39C2-49B5-8B35-F2AD26E1F7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6E58-9069-47CD-8C64-ED6836DF5B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1129-6FBC-41E1-97AB-F610D8D274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058E-880D-486A-B0AF-E97EB8B16D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D5AA-8D69-4BC5-809E-9A7E71F97E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F1D1-58FD-479F-8AC2-2873DA186D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4DF6-C400-45F5-8A6F-EBDC99CF21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A88A-A494-4574-A08A-468780C52E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2FF2-7B0F-420C-BE67-AF055EDF08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D082-FA2C-4670-BF3E-2D98343BA5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F364-0118-4010-B043-CF227FC558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31C-050E-4D90-93D6-699CD6B9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4BA-BE28-4BE6-AA61-008D7598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13B-D27D-414A-B473-ACEC9D11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BDA-AA43-43FA-8D0B-87CBEFE1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0B0A-F3AA-4238-BBED-FA520EA2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E4D2-ADAA-4B41-8860-331699E4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374B-76E5-4D83-8490-124C0187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A319-6539-4993-A31F-AF1ACB53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D68A-A819-4081-BE10-725959F5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1B16-FA5A-4FB4-B42E-70879BD2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DEC2-E8F5-41CB-AFB7-78D1B98A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F92-4506-4156-AA29-83B655D9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5B2D-D77D-4D52-A618-F6F83D0D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EE8D-6308-474A-9104-E6F0A15A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1ACD-5CC9-4D3D-9212-F0F966E3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18C6-91FB-4889-B098-244DA89A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1417-C198-4F41-9482-6BD87E2E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B02F-8936-4DC7-9424-2CD61FD8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07A8-D95F-49D0-A742-2F8EED9C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BECF-1D3A-4EA6-9DEE-7F814CC6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EFA9-EC89-48A9-AECB-88B66791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FA39-4635-401F-B77B-ADA0FEEC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16C-D75E-4E3B-BEF2-1637E549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C6EB0-9BE6-4CAC-80CA-32F7CC8C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265A-C0B4-4D04-AAAF-6314D74F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8E00B-BB1E-4FC2-98CE-E62B182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B2E7-236E-49E8-8E3A-542D18D0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D567-0428-43EF-A9F9-2B4BC9C0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AF078-373F-4C71-8FF3-5ADF4C3E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26A5-57C8-41D1-8F35-504974D1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0EF40-4324-410E-BF2B-76A7EA6D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2237B-7FA1-4D3F-8456-AEABAFFE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DECED-7FC2-4C66-B385-3E7FF7A5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8BB-FA0E-43E5-B210-A68182DE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94963-D4DE-43A5-B978-CB866C78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A42F0-5A99-473D-AEB1-C5B4D2A8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F0510-F5A5-4987-B301-3B2EE2FE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4E844-6D6D-46A2-A01D-05ED436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4BCCD-6B62-4F06-AFEC-3F05C671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DF11E-039B-47BA-B8C9-C5EC2F91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B25F0-D4E6-42F7-B0F1-635DABAE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9047-DFAA-489D-85E4-24FC8CA8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8B856-E593-4643-B4A2-1F07818C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4F4AA-464D-4974-B619-8AC20405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336-7B22-4937-8D6F-45A14893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47D14-5540-4BDB-96FA-6BB094DF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C42D3-4BC2-4EB9-A8CB-C54D482B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BC6FA-B62B-4DD8-A47A-8C3C55A3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ECE1-3D94-4B51-AF9B-395E5759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9AD26-1EAF-4D5D-9A81-687ED40A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90B3F-8298-4808-9980-879B8888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1EDE3-F082-4D27-946A-3768AD86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81C50-9054-4DBA-9DF4-A475AF8E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AA602-F9CB-46C8-998B-BCFC0BDA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E01F-CBD2-4C92-839D-62BA906C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11A-78C7-47B5-8AE8-52A26B0B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E8389-C494-4644-976C-840E7250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0E9AE-9F6F-4D73-91AD-D55AD819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468DD-5C8C-4DE3-BC3D-2B2A0DAC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69227-017C-4365-A6CD-64F2F983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D1CBE-1964-4213-A0B7-37D9016D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B24DA-B800-4C40-8F10-8A2C4695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8A06F-83B1-4A88-933E-160789A3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B2C4C-1841-42AD-9D2A-E225BBD6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33A27-3926-48D3-9EDA-C5CBA52F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DD511-448C-4A14-AD24-F6A03472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BEA-A1F5-4C69-ACD2-423FB7F6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571D5-E03A-4F00-A8F8-F0B7E88D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7D5B0-F382-4CD7-B728-6D1F3F9C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BF9C4-135B-480F-940A-2FFF1B29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B8D41-EBCF-40CC-9CFA-29FCA3BC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69BFE-C57B-4AAF-8530-F785A9FF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9C746-C5BD-4828-819F-454B22D5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ED65C-427C-4477-895D-2F12AB02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5523E-E57B-4DEA-B55B-E44D4A10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C30EB-AE2E-4978-853E-3E376D16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020ED-C978-4389-97F1-655AD90E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65B-F8BA-41C4-9B4D-E08591A1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F3087-810F-4AA2-8FDA-2E54CF9F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F8F3-B941-447C-A212-73024E50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71A2A-4C22-4DB9-91C1-A973EEC9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5B661-4B9B-4180-8973-5E3A6D20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E0221-00C1-40FF-81D9-032209CD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F80B9-AD8D-4AF7-A2B2-D8F6F009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31789-7C5A-484E-973A-86B67F7B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DE464-6185-4AAF-A830-4E718E88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748F2-9991-4BB6-B93E-5EF27500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6707C-DDAD-411B-ABB9-F0DFE9A4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F0A-7CFC-4369-AE39-B28423A0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9F52E-6832-4113-8ABB-904BD48E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2937F-140B-496A-86D6-44609443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9CA3A-0A6D-455B-B60E-518F93E2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8CBA4-699C-4DE7-9195-A212424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E946D-C846-4F18-8A5E-DCB3E4CB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37040-B758-4704-9F56-EA7BF253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86C82-E9E3-4523-B446-7FE2DCC4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B0A8-977A-427C-9F7F-6BB4E42E790A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1315-721D-4984-A3D4-18FECBE01B05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Connecteur droit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Connecteur droit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Triangle isocè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65AD-3EBC-45D9-96FD-20B5EF143152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42A5-4195-494F-8FAF-98A373B90F61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0CA6-A305-4EEF-A3FD-5B6C7FCD5F9C}" type="datetime">
              <a:rPr b="0" lang="fr-FR" sz="1400" spc="-1" strike="noStrike">
                <a:solidFill>
                  <a:srgbClr val="dde9ec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e9ec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144B-6B2B-435C-96E5-0E274FEBE1DB}" type="slidenum">
              <a:rPr b="0" lang="fr-BE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necteur droit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Connecteur droit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Triangle isocè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Triangle isocè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EA41-0B12-4806-B671-C83960BC2804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433B-2298-4947-8029-F0C34B789BB4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Triangle isocè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E45A-D4C3-47C3-B1A0-EC98B3B96778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2D38-12CD-4B7A-83F8-E8B58FF4F204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Connecteur droit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Triangle isocè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DD02-666A-4051-A56B-6F7DDBAB091D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F6D9-5307-41CF-88C4-22BDEC8ED24B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Triangle isocè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9576-D8FD-49F4-BD13-85F5CBEE3533}" type="datetime">
              <a:rPr b="0" lang="fr-FR" sz="1400" spc="-1" strike="noStrike">
                <a:solidFill>
                  <a:srgbClr val="dde9ec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e9ec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4D91-4149-46C5-9161-1B7F82E83184}" type="slidenum">
              <a:rPr b="0" lang="fr-BE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Triangle isocè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Connecteur droit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F197-52F6-423D-98C9-176D7636B224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967C-C2AD-4D05-AC82-D55249E2C0E6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marseille2012@reseauprojection.or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60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D7D4-48AF-42B6-AC79-3E21C0E21172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3780000" y="836640"/>
            <a:ext cx="1728720" cy="14000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6"/>
          <p:cNvSpPr/>
          <p:nvPr/>
        </p:nvSpPr>
        <p:spPr>
          <a:xfrm>
            <a:off x="1187280" y="41306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La contribution des jeunes professionn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Espace réservé du contenu 2"/>
          <p:cNvSpPr/>
          <p:nvPr/>
        </p:nvSpPr>
        <p:spPr>
          <a:xfrm>
            <a:off x="1187280" y="2617920"/>
            <a:ext cx="705672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« D’un monde de bidonvilles à un monde de solutions 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2"/>
          <a:stretch/>
        </p:blipFill>
        <p:spPr>
          <a:xfrm>
            <a:off x="7740720" y="1754280"/>
            <a:ext cx="961920" cy="1466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" descr=""/>
          <p:cNvPicPr/>
          <p:nvPr/>
        </p:nvPicPr>
        <p:blipFill>
          <a:blip r:embed="rId3"/>
          <a:stretch/>
        </p:blipFill>
        <p:spPr>
          <a:xfrm>
            <a:off x="684360" y="1897200"/>
            <a:ext cx="961920" cy="1466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4140360" y="4941720"/>
            <a:ext cx="936360" cy="112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F0EB-5DD1-487E-9E29-9E9C365100F4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Connecteur droit 13"/>
          <p:cNvSpPr/>
          <p:nvPr/>
        </p:nvSpPr>
        <p:spPr>
          <a:xfrm>
            <a:off x="1332000" y="2060640"/>
            <a:ext cx="720072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9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765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2"/>
          <p:cNvSpPr/>
          <p:nvPr/>
        </p:nvSpPr>
        <p:spPr>
          <a:xfrm>
            <a:off x="647640" y="2060640"/>
            <a:ext cx="849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7f7f7f"/>
                </a:solidFill>
                <a:latin typeface="Gill Sans MT"/>
              </a:rPr>
              <a:t>Une quarantaine de solutions collectées à ce jou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3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74" name="Espace réservé du contenu 2"/>
          <p:cNvSpPr/>
          <p:nvPr/>
        </p:nvSpPr>
        <p:spPr>
          <a:xfrm>
            <a:off x="1116000" y="692280"/>
            <a:ext cx="568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116000" y="2565360"/>
          <a:ext cx="7272360" cy="3816360"/>
        </p:xfrm>
        <a:graphic>
          <a:graphicData uri="http://schemas.openxmlformats.org/drawingml/2006/table">
            <a:tbl>
              <a:tblPr/>
              <a:tblGrid>
                <a:gridCol w="206280"/>
                <a:gridCol w="4533840"/>
                <a:gridCol w="1105200"/>
                <a:gridCol w="1427040"/>
              </a:tblGrid>
              <a:tr h="168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695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tion of technical standards for water supply networks in informal settl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ènagement des tal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aforce 5000 - Emergency water production sys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kist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g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teria counting application for low-cost water monitoring k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izen Intitiative to Enhance Water Governance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ty-Led Urban Environmental Sanitation 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age et calibrage des dra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inage des eaux pluvi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ing the Role of Water Vendors in the Sustainable and Safe Water Provisioning Ser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ge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nsion du réseau public de distribution d’eau potable, promotion des branchements particuliers et installation des bornes fontaines payantes communautai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tion à la construction, à l’utilisation et à l’entretien des latrines à doubles fosses sèches ventilé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approach in water supplies progr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/ education/ inst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al water and Sanitation strategies in Slum 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ing drinking water access in peri-urban areas and implementation of a local water serv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éra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sion of Low Income Urban Community for Improved Water Supply Facili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i Lan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utionnel-Financiè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ed program for cholera’s elimina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R of Con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sant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 pratique de tarification de l'ea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-Financiè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ites D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9BA3-FF54-4283-881A-F8DB115889A3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Connecteur droit 13"/>
          <p:cNvSpPr/>
          <p:nvPr/>
        </p:nvSpPr>
        <p:spPr>
          <a:xfrm>
            <a:off x="1332000" y="1989000"/>
            <a:ext cx="720072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1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7020000" y="692280"/>
            <a:ext cx="1439640" cy="11667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4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85" name="Espace réservé du contenu 2"/>
          <p:cNvSpPr/>
          <p:nvPr/>
        </p:nvSpPr>
        <p:spPr>
          <a:xfrm>
            <a:off x="1116000" y="692280"/>
            <a:ext cx="568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332000" y="2060640"/>
          <a:ext cx="6480000" cy="4321080"/>
        </p:xfrm>
        <a:graphic>
          <a:graphicData uri="http://schemas.openxmlformats.org/drawingml/2006/table">
            <a:tbl>
              <a:tblPr/>
              <a:tblGrid>
                <a:gridCol w="183960"/>
                <a:gridCol w="4040280"/>
                <a:gridCol w="984240"/>
                <a:gridCol w="1271520"/>
              </a:tblGrid>
              <a:tr h="144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rines à doubles fosses sèches ventilé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terplan design and institutional strenghtening for water supply and sanitation improvement in  peri-urban 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financier / In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e en place d’un dispositif de gestion pérenne des bornes fontaines payan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e water payments in Urban Afr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/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stakeholders financing of the connection of informal settlements to basic waterser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/ Edu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 channel diverting wastewater from Spring in slu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poo ba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et mise à la disposition des ménages des récipients adaptés pour la conservation et manipulation de l’eau de boisson dans les log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 of Rainwater in Coastal Urban in Bangladesh for Safe Water Solution in Light of Climate Change and Adap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-poor action in Medel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/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ing Pro Poor Water Services in Urban Areas through Multi Partnershi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ilippi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/ financi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ing the urban poor with ecological toilets through revolving loan fu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mbabwe, Tanza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-Financiè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 of water and sanitation services to the urban poor in Bhubaneswa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ching the poor- Slum networking in Ahmedab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um mapp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ép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-piped sew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 waste management for cleaner water down stre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an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p the persistence of waterborne diseases and the economic recove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/ sant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y for access to water and sanitation in the informal settlements : the delegated master operator mod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y for waste reduction, job creation and income generation in the slum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financier / In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ème communautaire semi-collectif d’assainiss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Implementation of Successful Social Programmes in the Provision of Water Servic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sex Uri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Group Network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le/ te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88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3DE7-9BA3-47A7-A5A4-89D0178AE300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2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2"/>
          <p:cNvSpPr/>
          <p:nvPr/>
        </p:nvSpPr>
        <p:spPr>
          <a:xfrm>
            <a:off x="755640" y="2338560"/>
            <a:ext cx="79930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Conception générale de l’exposi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ur un espace de 200 m² d’exposition au sein du « Village des solutions »,  il est prévu une visite en 3 temps 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Exposition du contexte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: visite classique avec panneaux d’inform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Exposition des solutions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: immersion au sein d’habitats précaires et mise en situation des solu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Espace de conférences et de débats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6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97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512B-6F0C-4F5A-AE37-948A08C01CCA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6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08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AutoShape 2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AutoShape 6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7898040" cy="4248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3193920" cy="35208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0246-E4FB-48A7-9921-D7B1E5CFD4BD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1" name="Picture 3" descr="C:\Users\Assoprojection JHH\Dropbox\Projection\Eléments graphiques\LOGO PROJ HD.png"/>
          <p:cNvPicPr/>
          <p:nvPr/>
        </p:nvPicPr>
        <p:blipFill>
          <a:blip r:embed="rId2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2"/>
          <p:cNvSpPr/>
          <p:nvPr/>
        </p:nvSpPr>
        <p:spPr>
          <a:xfrm>
            <a:off x="755640" y="2338560"/>
            <a:ext cx="6048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Zone 1 – Exposition du contex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éfinition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Ampleur du phénomène dans le mon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Causes et formation des bidonvil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es lieux d’implantation et le fonci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a vie dans les bidonvil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évolution du bidonville, acteurs et types d’interven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enjeu de l’accès à l’eau et à l’assainissemen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5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26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28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0BC5-0B49-474E-B82B-8C40476567A2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12"/>
          <p:cNvSpPr/>
          <p:nvPr/>
        </p:nvSpPr>
        <p:spPr>
          <a:xfrm>
            <a:off x="3708360" y="2338560"/>
            <a:ext cx="51116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Zone 2 – Exposition des sol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Une quinzaine de solutions exposées à l’intérieur et autour de la reproduction d’habitats informe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Supports visuels et démonstr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rincipe de la réalité augmenté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ictogrammes pour créer un fi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conducteu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6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37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8" name="Picture 1" descr=""/>
          <p:cNvPicPr/>
          <p:nvPr/>
        </p:nvPicPr>
        <p:blipFill>
          <a:blip r:embed="rId4"/>
          <a:stretch/>
        </p:blipFill>
        <p:spPr>
          <a:xfrm>
            <a:off x="250920" y="2349360"/>
            <a:ext cx="3362400" cy="381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3492360" cy="3807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41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0AED-D33D-413A-BE80-FC0CE0ABBCBB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5" name="Picture 3" descr="C:\Users\Assoprojection JHH\Dropbox\Projection\Eléments graphiques\LOGO PROJ HD.png"/>
          <p:cNvPicPr/>
          <p:nvPr/>
        </p:nvPicPr>
        <p:blipFill>
          <a:blip r:embed="rId2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2"/>
          <p:cNvSpPr/>
          <p:nvPr/>
        </p:nvSpPr>
        <p:spPr>
          <a:xfrm>
            <a:off x="395280" y="2421000"/>
            <a:ext cx="604836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Zone 3 – Espace de déba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Un programme de conférences tout a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ong de la semaine sur les questions d’accès à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eau et à l’assainissement dans les bidonvil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es moments d’échanges informe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intervention de toutes les parti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renant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(ex. Low level panel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9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50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52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D6F9-074A-4107-98DD-82A62C260DB7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12"/>
          <p:cNvSpPr/>
          <p:nvPr/>
        </p:nvSpPr>
        <p:spPr>
          <a:xfrm>
            <a:off x="755640" y="2395440"/>
            <a:ext cx="813744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Brainstor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rois groupes pour trois thèmes de réflex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es grands messages à faire pass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Une typologie des solu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es sujets et de formats originaux pour les débat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rois temp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Chacun remplit la boite à idées de son group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épouillement et débats au sein de chaque group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Restitution en session pléniè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0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61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1476360" y="2398680"/>
            <a:ext cx="6191280" cy="445932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64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6EDB-5CEC-4F18-AE32-314E0F94EAFC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" name="Picture 3" descr="C:\Users\Assoprojection JHH\Dropbox\Projection\Eléments graphiques\LOGO PROJ HD.png"/>
          <p:cNvPicPr/>
          <p:nvPr/>
        </p:nvPicPr>
        <p:blipFill>
          <a:blip r:embed="rId2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2"/>
          <p:cNvSpPr/>
          <p:nvPr/>
        </p:nvSpPr>
        <p:spPr>
          <a:xfrm>
            <a:off x="1116000" y="23385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2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73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70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B68E-C50C-49AC-8068-BA73D34A9F6B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378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755640" y="2398680"/>
            <a:ext cx="83883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Gill Sans MT"/>
              </a:rPr>
              <a:t>Le Forum Mondial de l’Eau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Le plus grand évènement  international du secteu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ous les 3 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25 000 participants : Professionnels, décideurs et société civi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Un constat : peu de visibilité pour les jeunes professio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81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0D8D-7FC9-4D12-A4A2-DE4154010387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2"/>
          <p:cNvSpPr/>
          <p:nvPr/>
        </p:nvSpPr>
        <p:spPr>
          <a:xfrm>
            <a:off x="2700360" y="2338560"/>
            <a:ext cx="6048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ill Sans MT"/>
              </a:rPr>
              <a:t>Qu’est-ce qui change au 6</a:t>
            </a:r>
            <a:r>
              <a:rPr b="1" lang="fr-FR" sz="32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1" lang="fr-FR" sz="3200" spc="-1" strike="noStrike">
                <a:solidFill>
                  <a:srgbClr val="000000"/>
                </a:solidFill>
                <a:latin typeface="Gill Sans MT"/>
              </a:rPr>
              <a:t> Forum Mondial de l’Ea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12 au 17 mars à Marseil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« Le temps des solutions » =&gt; engag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contribution préparée et visible des jeunes professio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390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324000" y="3141720"/>
            <a:ext cx="203508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93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5BF1-4EC8-4F08-A890-CDF1708E30CB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7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468360" y="2378160"/>
            <a:ext cx="86756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participer au foru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 droit d’entrée 2 fois moins cher que pour les seni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250 euros (OCDE) ou 150 euros (hors OCD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 accompagnement personnalisé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selon votre profil et vos atten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1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02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04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C1FE-FE39-4FE6-B3BF-923278A86943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8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2"/>
          <p:cNvSpPr/>
          <p:nvPr/>
        </p:nvSpPr>
        <p:spPr>
          <a:xfrm>
            <a:off x="324000" y="2421000"/>
            <a:ext cx="8675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rencontrer et échanger en dehors du foru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Auberge des jeunes professio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Plus de 100 places à tarifs négociés à 15 mn à pieds du for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s animations quotidiennes, pour échanger, rencontrer………… ……et se détendr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ouvert à to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13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6D68-03D7-413C-8385-7D8CC2F61BBE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2"/>
          <p:cNvSpPr/>
          <p:nvPr/>
        </p:nvSpPr>
        <p:spPr>
          <a:xfrm>
            <a:off x="468360" y="2378160"/>
            <a:ext cx="8675640" cy="36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leur donner de la visibili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venez rédacteur de la newsletter officielle du For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Entre 25 et 40 jeunes professionnels du monde enti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Transport et séjour intégralement pris en char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Réponse avant le 22 janvier (CV+présentation en anglais) à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b292ca"/>
                </a:solidFill>
                <a:uFillTx/>
                <a:latin typeface="Gill Sans MT"/>
                <a:hlinkClick r:id="rId3"/>
              </a:rPr>
              <a:t>marseille2012@reseauprojection.or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6a5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3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24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26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29CC-53A9-4C3A-A980-841443365C64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2"/>
          <p:cNvSpPr/>
          <p:nvPr/>
        </p:nvSpPr>
        <p:spPr>
          <a:xfrm>
            <a:off x="468360" y="237816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contribuer aux débats</a:t>
            </a:r>
            <a:r>
              <a:rPr b="0" lang="fr-FR" sz="2400" spc="-1" strike="noStrike">
                <a:solidFill>
                  <a:srgbClr val="7f7f7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3"/>
          <a:srcRect l="0" t="2520" r="0" b="0"/>
          <a:stretch/>
        </p:blipFill>
        <p:spPr>
          <a:xfrm>
            <a:off x="611280" y="3429000"/>
            <a:ext cx="4357440" cy="2787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"/>
          <p:cNvPicPr/>
          <p:nvPr/>
        </p:nvPicPr>
        <p:blipFill>
          <a:blip r:embed="rId4"/>
          <a:stretch/>
        </p:blipFill>
        <p:spPr>
          <a:xfrm>
            <a:off x="6227640" y="4005360"/>
            <a:ext cx="2305080" cy="18414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15"/>
          <p:cNvSpPr/>
          <p:nvPr/>
        </p:nvSpPr>
        <p:spPr>
          <a:xfrm>
            <a:off x="2987640" y="3500280"/>
            <a:ext cx="86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Focus Bidonvil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Straight Connector 17"/>
          <p:cNvSpPr/>
          <p:nvPr/>
        </p:nvSpPr>
        <p:spPr>
          <a:xfrm>
            <a:off x="2843280" y="4941720"/>
            <a:ext cx="324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Oval 18"/>
          <p:cNvSpPr/>
          <p:nvPr/>
        </p:nvSpPr>
        <p:spPr>
          <a:xfrm>
            <a:off x="2627280" y="4869000"/>
            <a:ext cx="21600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Rounded Rectangle 19"/>
          <p:cNvSpPr/>
          <p:nvPr/>
        </p:nvSpPr>
        <p:spPr>
          <a:xfrm>
            <a:off x="6084720" y="3429000"/>
            <a:ext cx="2590920" cy="280836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808360"/>
              <a:gd name="textAreaBottom" fmla="*/ 2682000 h 2808360"/>
            </a:gdLst>
            <a:ahLst/>
            <a:rect l="textAreaLeft" t="textAreaTop" r="textAreaRight" b="textAreaBottom"/>
            <a:pathLst>
              <a:path w="21600" h="23413">
                <a:moveTo>
                  <a:pt x="3600" y="0"/>
                </a:moveTo>
                <a:arcTo wR="3600" hR="3600" stAng="16200000" swAng="-5400000"/>
                <a:lnTo>
                  <a:pt x="0" y="19813"/>
                </a:lnTo>
                <a:arcTo wR="3600" hR="3600" stAng="10800000" swAng="-5400000"/>
                <a:lnTo>
                  <a:pt x="18000" y="23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1" name="Picture 2" descr="C:\Users\Assoprojection JHH\Desktop\projection perso\LOGO FME grand.jpg"/>
          <p:cNvPicPr/>
          <p:nvPr/>
        </p:nvPicPr>
        <p:blipFill>
          <a:blip r:embed="rId5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43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0B4E-FDE6-4248-A7DA-0B6F2C11FB9A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7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2"/>
          <p:cNvSpPr/>
          <p:nvPr/>
        </p:nvSpPr>
        <p:spPr>
          <a:xfrm>
            <a:off x="755640" y="2338560"/>
            <a:ext cx="79930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Le Proj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ill Sans MT"/>
              </a:rPr>
              <a:t>Objectif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orter le sujet des quartiers précaires au cœur du 6</a:t>
            </a:r>
            <a:r>
              <a:rPr b="0" lang="fr-FR" sz="22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F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ématique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: </a:t>
            </a:r>
            <a:r>
              <a:rPr b="0" i="1" lang="fr-FR" sz="2200" spc="-1" strike="noStrike">
                <a:solidFill>
                  <a:srgbClr val="000000"/>
                </a:solidFill>
                <a:latin typeface="Gill Sans MT"/>
              </a:rPr>
              <a:t>Avant que le bidonville ne devienne une référence urbaine, comment l’accès aux services de base peut-il être un facteur levier de développement local de ces quartiers, pour une intégration à terme dans l’espace urbain en tant que quartier salubre ?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1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52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B186-EDBD-448A-B261-09446F7F9FFD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2"/>
          <p:cNvSpPr/>
          <p:nvPr/>
        </p:nvSpPr>
        <p:spPr>
          <a:xfrm>
            <a:off x="395280" y="2349360"/>
            <a:ext cx="8532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 travail collaborati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 groupe de travail de JP pertinents sur la question des quartiers précai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 comité de pilotage et des partenariats techniques (AFD, GRET, UN-Habit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Des ateliers JP mis en place dans le cadre des Forum Nationaux de l’Eau et de l’Assainissement d’Afrique de l’Ouest pour alimenter le fo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 appel international à solutions pour l’eau et à l’assainissement dans les bidonvilles pour encourager la participation de to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63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12:40Z</dcterms:created>
  <dc:creator>Projection Défis Sud</dc:creator>
  <dc:description/>
  <dc:language>en-US</dc:language>
  <cp:lastModifiedBy>Projection</cp:lastModifiedBy>
  <dcterms:modified xsi:type="dcterms:W3CDTF">2012-02-02T18:24:51Z</dcterms:modified>
  <cp:revision>188</cp:revision>
  <dc:subject/>
  <dc:title>Diapositive 1</dc:title>
</cp:coreProperties>
</file>